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656F-316D-4A0B-9822-4B72A3ABCE6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1D3D-4F35-4D25-A941-7DC03A6860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"Antropoceno" fue acuñado por el ecologista Eugene Stoermer, pero popularizado por el químico atmosférico Paul Crutzen (ganador del Premio Novel en 199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"Límites Planetarios" fue una propuesta de científicos del Centro de Resiliencia de Estocolmo y la Universidad Nacional Australiana. Se divulgó a través de una publicación en Nature (200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capacidad de carga puede ser útil para entender los peligros del crecimiento de la población y el uso insostenible de los recursos. En ecología, cuando la población de una especie crece más allá de su capacidad de carga, la población desciende bruscamente; a veces, los ecosistemas se recuperan pero también es posible que queden alterados para siemp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FE72-7B0B-463A-9EB2-E78E1359E9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"Antropoceno" fue acuñado por el ecologista Eugene Stoermer, pero popularizado por el químico atmosférico Paul Crutzen (ganador del Premio Novel en 199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"Límites Planetarios" fue una propuesta de científicos del Centro de Resiliencia de Estocolmo y la Universidad Nacional Australiana. Se divulgó a través de una publicación en Nature (200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capacidad de carga puede ser útil para entender los peligros del crecimiento de la población y el uso insostenible de los recursos. En ecología, cuando la población de una especie crece más allá de su capacidad de carga, la población desciende bruscamente; a veces, los ecosistemas se recuperan pero también es posible que queden alterados para siemp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34C1-627D-408B-BD4D-17764022A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"Antropoceno" fue acuñado por el ecologista Eugene Stoermer, pero popularizado por el químico atmosférico Paul Crutzen (ganador del Premio Novel en 199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"Límites Planetarios" fue una propuesta de científicos del Centro de Resiliencia de Estocolmo y la Universidad Nacional Australiana. Se divulgó a través de una publicación en Nature (200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concepto de capacidad de carga puede ser útil para entender los peligros del crecimiento de la población y el uso insostenible de los recursos. En ecología, cuando la población de una especie crece más allá de su capacidad de carga, la población desciende bruscamente; a veces, los ecosistemas se recuperan pero también es posible que queden alterados para siemp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D441-94B6-47B9-9848-198913DDD8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091-A8FD-4400-9161-27793714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0AE-0518-4121-B8DC-AB385095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6AC-B08B-4ED5-8FD3-E1B610AB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3F5-3CFE-426B-9B44-1EDEF739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875B-9F08-433A-8D95-4F5F04B9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24AF-9BE4-4EAC-9CFC-D49CAF72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E7CB-D141-424B-9981-A79E8EE6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EE09-8E09-4212-B096-A2BD46EF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BE8B-0FFD-4733-B952-E089D99F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3F73-E6A7-456C-B176-8E5CDB69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75BC-C2A4-4B86-B88D-34C92F6A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0FE-65FC-4F26-90DB-CB9F72BF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4DBE-E5B6-4FC1-91D3-8F1D406E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877C-7B4F-4C72-823A-0B1633C8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36C4-9427-4CC2-BC2B-901399C4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A655-A8E9-43EC-A818-84AD5564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88F8-8D39-4AD4-BEF8-E84C2B43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815-76D5-45B2-889A-74414F43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A6E-6DBD-43DB-979A-DABA2DC2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BF3-3406-4875-88E5-65610224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032-7D48-45FF-BE84-7494620A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DD9-C892-4D10-B42F-F527AF6B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024-FA3C-469E-96B9-25F0C3BD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33E-7204-4511-883A-A1FEBAE1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E34D-AB83-4E18-B562-9347BB5D73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6BE1-1084-41B4-9E12-D993B33A2E4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Introducción General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Verdana"/>
              </a:rPr>
              <a:t>Integración del medio ambiente y el cambio climático a nivel nacional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os del curs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227664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Conocerá los </a:t>
            </a:r>
            <a:r>
              <a:rPr b="1" lang="es-ES" sz="2200" spc="-1" strike="noStrike">
                <a:solidFill>
                  <a:srgbClr val="0f5494"/>
                </a:solidFill>
                <a:latin typeface="Verdana"/>
              </a:rPr>
              <a:t>vínculos</a:t>
            </a: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 entre el medio ambiente, el cambio climático, la economía verde y el desarrollo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Será consciente de los </a:t>
            </a:r>
            <a:r>
              <a:rPr b="1" lang="es-ES" sz="2200" spc="-1" strike="noStrike">
                <a:solidFill>
                  <a:srgbClr val="0f5494"/>
                </a:solidFill>
                <a:latin typeface="Verdana"/>
              </a:rPr>
              <a:t>beneficios</a:t>
            </a: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 y los </a:t>
            </a:r>
            <a:r>
              <a:rPr b="1" lang="es-ES" sz="2200" spc="-1" strike="noStrike">
                <a:solidFill>
                  <a:srgbClr val="0f5494"/>
                </a:solidFill>
                <a:latin typeface="Verdana"/>
              </a:rPr>
              <a:t>retos </a:t>
            </a: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de integrar el medio ambiente y el cambio climático en los procesos de planificación nacional y elaboración de presupuesto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Estará familiarizado con las similitudes, sinergias y diferencias entre la integración del medio ambiente y el cambio climático en la cooperación al desarrollo vs la integración en los procesos de planificación nacional y elaboración de presupuesto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A657-AB52-47FE-B134-2B14C9AF96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bjectivos del curs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227664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f5494"/>
                </a:solidFill>
                <a:latin typeface="Verdana"/>
              </a:rPr>
              <a:t>Asimismo: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f5494"/>
                </a:solidFill>
                <a:latin typeface="Verdana"/>
              </a:rPr>
              <a:t>Explorarán</a:t>
            </a: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 juntos – en base a experiencias – los conceptos de integración, medio ambiente, cambio climático, economía verde y su pertinencia para el desarroll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f5494"/>
                </a:solidFill>
                <a:latin typeface="Verdana"/>
              </a:rPr>
              <a:t>Compartirán</a:t>
            </a: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 puntos de vista, experiencias y conocimient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Contribuirán por medio de aportar puntos de vista y </a:t>
            </a:r>
            <a:r>
              <a:rPr b="1" lang="es-ES" sz="2000" spc="-1" strike="noStrike">
                <a:solidFill>
                  <a:srgbClr val="0f5494"/>
                </a:solidFill>
                <a:latin typeface="Verdana"/>
              </a:rPr>
              <a:t>retroalimentación</a:t>
            </a:r>
            <a:r>
              <a:rPr b="0" lang="es-ES" sz="2000" spc="-1" strike="noStrike">
                <a:solidFill>
                  <a:srgbClr val="0f5494"/>
                </a:solidFill>
                <a:latin typeface="Verdana"/>
              </a:rPr>
              <a:t> sobre la integración en la práctic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8245-9FCD-401A-876B-F3869B8E58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Horario (indicativo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227664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09.00 – 10.30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Sesión 1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10.30 – 11.00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s-ES" sz="2400" spc="-1" strike="noStrike">
                <a:solidFill>
                  <a:srgbClr val="0f5494"/>
                </a:solidFill>
                <a:latin typeface="Verdana"/>
              </a:rPr>
              <a:t>reces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11.00 – 12.30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Sesión 2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12.30 – 14.00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s-ES" sz="2400" spc="-1" strike="noStrike">
                <a:solidFill>
                  <a:srgbClr val="0f5494"/>
                </a:solidFill>
                <a:latin typeface="Verdana"/>
              </a:rPr>
              <a:t>Almuerz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14.00 – 15.15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Sesión 3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15.15 – 15.45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s-ES" sz="2400" spc="-1" strike="noStrike">
                <a:solidFill>
                  <a:srgbClr val="0f5494"/>
                </a:solidFill>
                <a:latin typeface="Verdana"/>
              </a:rPr>
              <a:t>reces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15.45 – 17.00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f5494"/>
                </a:solidFill>
                <a:latin typeface="Verdana"/>
              </a:rPr>
              <a:t>Sesión 4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DDD2-02A4-4AFC-B978-9B360BC1B5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cp:lastPrinted>2014-02-07T11:30:03Z</cp:lastPrinted>
  <dcterms:modified xsi:type="dcterms:W3CDTF">2014-06-15T09:31:30Z</dcterms:modified>
  <cp:revision>160</cp:revision>
  <dc:subject/>
  <dc:title>Slide 1</dc:title>
</cp:coreProperties>
</file>